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0140-3F06-4809-A761-F07F27C87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8CE1-61B1-4327-8D93-3806B0F9121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255E-9114-4E27-A90D-ACA9A03F2162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A21D-EF6A-4AC9-9D8D-6C67DF9E45B0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908-A218-4060-AF51-F5CC5642AD6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0488-AB5D-4869-8E42-FF5460B6C26B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498-8DEE-4AE1-ABCA-3434CE4D34A1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FA03-797C-46FD-B3FE-C5E947339DD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C44A-BB12-4E26-AED9-A462D0EC35F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C11-17D9-4D17-811B-1CE5A2761A83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5C2D-F9C8-4FA8-8DE9-9A7B2397A793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2923-1EE2-4F39-926E-77E0913DC93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4C6C-8140-4A39-8963-60427EB995A4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6A12-B947-4B6D-B210-1BA73A1C5B5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369-5632-4ADB-A6C8-EA1C076EC86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7FBE-A656-4218-AB55-82AAE584B1A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134-6333-466F-953C-4BABE44F1E01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960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224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488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79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2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ensus.gov/population/internationa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mailto:charles.bahan@mnps.org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nsus.gov/population/internationa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4572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finding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ge and Sex Statistics for your assigned country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census.gov/population/inter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get out your country shee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01520" y="-76320"/>
            <a:ext cx="10261440" cy="7696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4917960" y="1455480"/>
            <a:ext cx="3276720" cy="30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oogle “liburro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Line 3"/>
          <p:cNvSpPr/>
          <p:nvPr/>
        </p:nvSpPr>
        <p:spPr>
          <a:xfrm flipV="1">
            <a:off x="735840" y="5181480"/>
            <a:ext cx="2389320" cy="154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174840" y="4876560"/>
            <a:ext cx="3581640" cy="61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on Bahan (open up Population Pyramid Ppt.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Line 3"/>
          <p:cNvSpPr/>
          <p:nvPr/>
        </p:nvSpPr>
        <p:spPr>
          <a:xfrm>
            <a:off x="3556080" y="1600200"/>
            <a:ext cx="137160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927680" y="1225440"/>
            <a:ext cx="3378240" cy="101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B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854360" y="5467320"/>
            <a:ext cx="4038480" cy="20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ve the mouse to the bottom right corner of B2 and when the + appears drag the box down to B2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650960" y="2241720"/>
            <a:ext cx="380880" cy="3225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460840" y="2467080"/>
            <a:ext cx="381024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mportant! The statistics for Males will all be negative numbers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Line 3"/>
          <p:cNvSpPr/>
          <p:nvPr/>
        </p:nvSpPr>
        <p:spPr>
          <a:xfrm>
            <a:off x="2260440" y="21337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459320" y="1447920"/>
            <a:ext cx="3378240" cy="10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C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27280" y="5638680"/>
            <a:ext cx="44211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ove the mouse to the bottom right corner of C2 and when the + appears drag the box down to C2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2260440" y="2286000"/>
            <a:ext cx="0" cy="3124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19240" y="685800"/>
            <a:ext cx="281592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ula Ba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Line 3"/>
          <p:cNvSpPr/>
          <p:nvPr/>
        </p:nvSpPr>
        <p:spPr>
          <a:xfrm flipV="1">
            <a:off x="3174840" y="939600"/>
            <a:ext cx="0" cy="507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1751760" y="533520"/>
            <a:ext cx="2336760" cy="633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1752480" y="1231920"/>
            <a:ext cx="127080" cy="5968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888840" y="838080"/>
            <a:ext cx="1727280" cy="55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igh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089240" y="243000"/>
            <a:ext cx="24512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to Inse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3"/>
          <p:cNvSpPr/>
          <p:nvPr/>
        </p:nvSpPr>
        <p:spPr>
          <a:xfrm>
            <a:off x="4863960" y="965160"/>
            <a:ext cx="1397160" cy="1486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2577960" y="1968480"/>
            <a:ext cx="3721320" cy="1536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 flipV="1">
            <a:off x="3860640" y="441360"/>
            <a:ext cx="2362320" cy="6732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3859920" y="1294920"/>
            <a:ext cx="2971800" cy="4129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006960" y="345960"/>
            <a:ext cx="3949920" cy="94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o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ar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lect 2-D Ba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Line 3"/>
          <p:cNvSpPr/>
          <p:nvPr/>
        </p:nvSpPr>
        <p:spPr>
          <a:xfrm>
            <a:off x="6845400" y="5335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620120" y="762120"/>
            <a:ext cx="2539800" cy="9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reate a tit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4927680" y="23623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3"/>
          <p:cNvSpPr/>
          <p:nvPr/>
        </p:nvSpPr>
        <p:spPr>
          <a:xfrm>
            <a:off x="6845400" y="5335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620120" y="762120"/>
            <a:ext cx="2539800" cy="9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reate a tit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Line 3"/>
          <p:cNvSpPr/>
          <p:nvPr/>
        </p:nvSpPr>
        <p:spPr>
          <a:xfrm>
            <a:off x="1879560" y="5335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7245360" y="91440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8655120" y="4952880"/>
            <a:ext cx="387360" cy="609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772400" y="5715000"/>
            <a:ext cx="2540160" cy="9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r name and peri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44280" y="387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0" name="Line 5"/>
          <p:cNvSpPr/>
          <p:nvPr/>
        </p:nvSpPr>
        <p:spPr>
          <a:xfrm flipV="1">
            <a:off x="3860640" y="4059360"/>
            <a:ext cx="1371600" cy="588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070320" y="4469400"/>
            <a:ext cx="2634120" cy="731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on PD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lect Save as PD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17680" y="6231600"/>
            <a:ext cx="3190680" cy="9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mail t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charles.bahan@mnps.or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an attachment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574880" y="3691080"/>
            <a:ext cx="321192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r name and peri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3326760" y="4952880"/>
            <a:ext cx="2679480" cy="1526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098160" y="1873080"/>
            <a:ext cx="1981080" cy="748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5244120" y="1874160"/>
            <a:ext cx="230508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ave to Deskt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4572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finding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ge and Sex Statistics for your assigned country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census.gov/population/inter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get out your country shee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534000" y="3587760"/>
            <a:ext cx="3276720" cy="152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You need to be in the Slide Show view to access this website.  (click on the movie screen icon at the bottom rt. of your screen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Line 3"/>
          <p:cNvSpPr/>
          <p:nvPr/>
        </p:nvSpPr>
        <p:spPr>
          <a:xfrm flipH="1" flipV="1">
            <a:off x="9689760" y="5257800"/>
            <a:ext cx="266760" cy="1828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2031840" y="4826160"/>
            <a:ext cx="203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7997760" y="685800"/>
            <a:ext cx="21621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Line 8"/>
          <p:cNvSpPr/>
          <p:nvPr/>
        </p:nvSpPr>
        <p:spPr>
          <a:xfrm flipH="1">
            <a:off x="4360680" y="5079960"/>
            <a:ext cx="20732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Line 9"/>
          <p:cNvSpPr/>
          <p:nvPr/>
        </p:nvSpPr>
        <p:spPr>
          <a:xfrm flipH="1">
            <a:off x="2285640" y="4826160"/>
            <a:ext cx="414828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3" name="Picture 1024" descr=""/>
          <p:cNvPicPr/>
          <p:nvPr/>
        </p:nvPicPr>
        <p:blipFill>
          <a:blip r:embed="rId1"/>
          <a:stretch/>
        </p:blipFill>
        <p:spPr>
          <a:xfrm>
            <a:off x="0" y="0"/>
            <a:ext cx="10032840" cy="8097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632040" y="3200400"/>
            <a:ext cx="41911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"/>
              </a:rPr>
              <a:t>Click on International Data Bas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95" name="Straight Arrow Connector 4"/>
          <p:cNvCxnSpPr/>
          <p:nvPr/>
        </p:nvCxnSpPr>
        <p:spPr>
          <a:xfrm flipH="1" flipV="1">
            <a:off x="2869560" y="2979360"/>
            <a:ext cx="991080" cy="767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" name="Straight Arrow Connector 8"/>
          <p:cNvCxnSpPr/>
          <p:nvPr/>
        </p:nvCxnSpPr>
        <p:spPr>
          <a:xfrm flipH="1" flipV="1">
            <a:off x="1497960" y="2979360"/>
            <a:ext cx="1448280" cy="1070640"/>
          </a:xfrm>
          <a:prstGeom prst="straightConnector1">
            <a:avLst/>
          </a:prstGeom>
          <a:ln w="0">
            <a:noFill/>
          </a:ln>
        </p:spPr>
      </p:cxnSp>
      <p:sp>
        <p:nvSpPr>
          <p:cNvPr id="97" name="Line 3"/>
          <p:cNvSpPr/>
          <p:nvPr/>
        </p:nvSpPr>
        <p:spPr>
          <a:xfrm>
            <a:off x="1802520" y="3200400"/>
            <a:ext cx="1746360" cy="5176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302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Line 3"/>
          <p:cNvSpPr/>
          <p:nvPr/>
        </p:nvSpPr>
        <p:spPr>
          <a:xfrm flipV="1">
            <a:off x="3942720" y="2933280"/>
            <a:ext cx="1517400" cy="3812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460840" y="2229480"/>
            <a:ext cx="3276720" cy="146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d name of your assigned countr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946240" y="4630680"/>
            <a:ext cx="190044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903920" y="3539520"/>
            <a:ext cx="4038480" cy="182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d Year 2000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on Submit (Hint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ome times there might be a glitch, and you won’t see your data. Navigate back to this screen and try again. It will work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17640" y="4800240"/>
            <a:ext cx="2129040" cy="1981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4"/>
          <p:cNvSpPr/>
          <p:nvPr/>
        </p:nvSpPr>
        <p:spPr>
          <a:xfrm flipH="1" flipV="1">
            <a:off x="7105320" y="7416360"/>
            <a:ext cx="825480" cy="507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144360" y="93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Line 2"/>
          <p:cNvSpPr/>
          <p:nvPr/>
        </p:nvSpPr>
        <p:spPr>
          <a:xfrm>
            <a:off x="7104960" y="357120"/>
            <a:ext cx="144360" cy="14479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Line 3"/>
          <p:cNvSpPr/>
          <p:nvPr/>
        </p:nvSpPr>
        <p:spPr>
          <a:xfrm flipH="1">
            <a:off x="1422360" y="837360"/>
            <a:ext cx="914400" cy="9651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0600" y="1800360"/>
            <a:ext cx="2003400" cy="1295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 filling in your country data she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918040" y="1981080"/>
            <a:ext cx="2909880" cy="13464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xt click on Population Pyrami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7784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Line 4"/>
          <p:cNvSpPr/>
          <p:nvPr/>
        </p:nvSpPr>
        <p:spPr>
          <a:xfrm>
            <a:off x="3751200" y="6961320"/>
            <a:ext cx="925560" cy="226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710240" y="6685920"/>
            <a:ext cx="311292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"/>
              </a:rPr>
              <a:t>Exc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3"/>
          <p:cNvSpPr/>
          <p:nvPr/>
        </p:nvSpPr>
        <p:spPr>
          <a:xfrm>
            <a:off x="2198520" y="-2133720"/>
            <a:ext cx="12319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06920" y="-2357640"/>
            <a:ext cx="281556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“2000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0" y="-381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Line 3"/>
          <p:cNvSpPr/>
          <p:nvPr/>
        </p:nvSpPr>
        <p:spPr>
          <a:xfrm flipH="1">
            <a:off x="1193760" y="1600200"/>
            <a:ext cx="1690560" cy="363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692600" y="1752480"/>
            <a:ext cx="1528920" cy="12574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Line 3"/>
          <p:cNvSpPr/>
          <p:nvPr/>
        </p:nvSpPr>
        <p:spPr>
          <a:xfrm flipV="1">
            <a:off x="4692600" y="3111120"/>
            <a:ext cx="1530360" cy="19940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84280" y="1963800"/>
            <a:ext cx="1828800" cy="276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Hint: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 sure to ONLY highlight cells that have age cohorts, NOT the Total Male and Female Popul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221520" y="1523880"/>
            <a:ext cx="309384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Highlight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ale Population row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4-D24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(rt. click-copy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Once you paste the Male Population Data, you will follow the same steps for Female Population row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4-E2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498680" y="5334120"/>
            <a:ext cx="7315200" cy="10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ime to paste this data into your blank Excel spreadsheet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ick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on th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next slide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see how it’s done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4720" y="6094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Constructing Population Pyramids in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icrosoft Excel</a:t>
            </a:r>
            <a:br>
              <a:rPr sz="6400"/>
            </a:br>
            <a:br>
              <a:rPr sz="6400"/>
            </a:b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22360" y="4689360"/>
            <a:ext cx="6629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Go back to Liburro (Bahan) open up the Blank Pyramid document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565360" y="5973840"/>
            <a:ext cx="4038480" cy="102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ype the total population for your country in field B24 (see your original Excel spreadsheet for data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1727280" y="5791320"/>
            <a:ext cx="838080" cy="3808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537160" y="2643120"/>
            <a:ext cx="4038480" cy="102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ste your population data for Males in fields E2-E22 an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emales F2-F2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4241880" y="2133720"/>
            <a:ext cx="129528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4241880" y="5334120"/>
            <a:ext cx="129528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2008080" y="5367240"/>
            <a:ext cx="111456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Line 3"/>
          <p:cNvSpPr/>
          <p:nvPr/>
        </p:nvSpPr>
        <p:spPr>
          <a:xfrm flipH="1">
            <a:off x="1498680" y="2133720"/>
            <a:ext cx="129528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12920" y="6302520"/>
            <a:ext cx="2171520" cy="101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ype Total Population in field A2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507960" y="5791320"/>
            <a:ext cx="0" cy="6937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ahan, Charles A (MNPS)</cp:lastModifiedBy>
  <cp:lastPrinted>2011-10-05T03:38:15Z</cp:lastPrinted>
  <dcterms:modified xsi:type="dcterms:W3CDTF">2011-10-07T23:16:09Z</dcterms:modified>
  <cp:revision>105</cp:revision>
  <dc:subject/>
  <dc:title>Technology Lessons</dc:title>
</cp:coreProperties>
</file>